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5C0-0BE2-40FF-A7B7-33A7EBDE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B5F-A7F7-4CFA-9990-519E84BA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D78-6FE9-458A-B324-C8D9B3FC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E77-4A78-40F4-91B4-E923EA4F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E71-F2A1-47D0-AECE-4DF6F425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0E2E-A976-4101-BFFE-F3ACFB1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EA2B-1919-4796-B41D-759B70DD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0A0A-19BC-4346-BF97-2811EDB7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FD05-BF4B-493E-B802-E208C8C0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96E-1078-42DF-9AD2-607477C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27E2-99D8-4CD0-B790-430660C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4DC-64A2-4D90-AC57-3B66938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FFD7-C4C7-4DA8-B09D-64162B69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BE98-5FA1-431F-B8BF-C6938D4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D266-EADA-48D0-B740-E78998A5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3DB6-B936-40E6-B186-023A129B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210C-7574-4A61-8AD7-94A37EA9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1608-BB8E-42BA-91CA-16FBC203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A2E3-327B-4453-AA9D-8B268689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9187-2E9F-4BFD-A34C-C08B4A6C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E35F-6D97-4331-9663-3EAF871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37C0-1681-4568-B774-D1D13387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464-BC8C-44A4-85D2-5A3B34A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82D3-9BB1-40B1-903B-7364985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0A48-BE66-47E9-AF99-E81A59BB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0C82-6552-42BB-B277-88001FC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5C0B-9F13-4050-BF7C-F306FB4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5FB8-D29D-4EF7-96B8-A1F1057E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4505-B408-44D8-B33A-313CA800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E202-D0B2-4B8E-961C-4DB6D526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F036-88E2-47DA-852D-7EEC64F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B52D-68F2-45E1-ADBE-31E0E10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2A75-B210-4861-B882-074D5938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B08-8530-44FE-B008-532337DB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B76C-9712-453B-B386-8DC39F58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898E-D4F7-4B18-89FE-E4BA51FD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A2AB-0EF4-4586-B619-3A776D0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A137-1A95-4F3D-B948-43BD2BB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3EEC-A7BF-4F5B-BEEC-3B8D536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CE39-DE0A-42CD-A0F1-A3296578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75A4-7AFD-47C0-BC76-0787EB15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3F95-2749-4819-8624-E9F0B7F5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63B0-83B2-4C83-8832-5B61AAA8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5C9-C5D3-4ADC-80D0-CD33D0BF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66D-633F-4E89-820D-BE40EBB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FF9-C4F2-4531-B633-28C30F6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AD5-8425-497A-8FAD-DEDA8BC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F1A-06AC-4761-BCB1-FFCA87C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24F4-3055-4DBF-820E-8A71A3573F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CD1-E394-464C-BAAE-914D7B1C57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FC6-FCEC-4A55-876F-5BA02535F91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479E-8331-457E-96D5-780306FD15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ptobal.files.wordpress.com/2008/04/nino-y-television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Title 1" descr=""/>
          <p:cNvPicPr/>
          <p:nvPr/>
        </p:nvPicPr>
        <p:blipFill>
          <a:blip r:embed="rId3"/>
          <a:stretch/>
        </p:blipFill>
        <p:spPr>
          <a:xfrm>
            <a:off x="225360" y="4260960"/>
            <a:ext cx="7040520" cy="2371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702480" y="5791320"/>
            <a:ext cx="2441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Jenny Clif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Gena Omelyanek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Tori Langa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Analysis and Conclusion (2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nd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The bar graphs for the primetime and daytime were almost identical in rat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Although the primetime block had more commercials shown, the proportions between the </a:t>
            </a:r>
            <a:r>
              <a:rPr b="0" i="1" lang="en-US" sz="2400" spc="-1" strike="noStrike">
                <a:solidFill>
                  <a:srgbClr val="dbf5f9"/>
                </a:solidFill>
                <a:latin typeface="바탕"/>
              </a:rPr>
              <a:t>no’</a:t>
            </a: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s and the </a:t>
            </a:r>
            <a:r>
              <a:rPr b="0" i="1" lang="en-US" sz="2400" spc="-1" strike="noStrike">
                <a:solidFill>
                  <a:srgbClr val="dbf5f9"/>
                </a:solidFill>
                <a:latin typeface="바탕"/>
              </a:rPr>
              <a:t>yes’</a:t>
            </a: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s for both times was very simi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Assumption for 3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r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All expected counts &gt; (or equal to)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Not S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Not all counts &gt; (or equal to)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8672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*Not all assumptions pass, but we will continue with the tes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바탕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바탕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NBC, ABC, CB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Chi-square 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o: The channel and the type of commercial shown are indepen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a: The channel and the type of commercial shown are depen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= 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</a:rPr>
              <a:t>(6-9)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  <a:ea typeface="Times New Roman"/>
              </a:rPr>
              <a:t>²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+ 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</a:rPr>
              <a:t>(9-4.34)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  <a:ea typeface="Times New Roman"/>
              </a:rPr>
              <a:t>²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+ … = 30.25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      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9           4.3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(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  <a:ea typeface="Times New Roman"/>
              </a:rPr>
              <a:t>χ ² &gt; 30.259 / df = 12) = .002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We reject Ho because our p-value &lt; α=0.05. We have sufficient evidence to say that the channel and the type of commercial shown are dependent, therefore some channels specifically show more of one type of commercial than other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ChiSquareFormula2" descr="http://mailer.fsu.edu/~slosh/ChiSquareFormula2.JPG"/>
          <p:cNvPicPr/>
          <p:nvPr/>
        </p:nvPicPr>
        <p:blipFill>
          <a:blip r:embed="rId3"/>
          <a:stretch/>
        </p:blipFill>
        <p:spPr>
          <a:xfrm>
            <a:off x="533520" y="2971800"/>
            <a:ext cx="2789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Visual Statistics (3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r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Chart 2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6" name="Chart 3" descr=""/>
          <p:cNvPicPr/>
          <p:nvPr/>
        </p:nvPicPr>
        <p:blipFill>
          <a:blip r:embed="rId5"/>
          <a:stretch/>
        </p:blipFill>
        <p:spPr>
          <a:xfrm>
            <a:off x="3657600" y="16002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7" name="Chart 4" descr=""/>
          <p:cNvPicPr/>
          <p:nvPr/>
        </p:nvPicPr>
        <p:blipFill>
          <a:blip r:embed="rId6"/>
          <a:stretch/>
        </p:blipFill>
        <p:spPr>
          <a:xfrm>
            <a:off x="3657600" y="4038480"/>
            <a:ext cx="525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Analysis and Conclusion (3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r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According to the overall bar graph for the three networks, NBC had at least ten more insurance commercials than CBS and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Another notable difference: CBS had virtually no female-based commercials shown during the allotted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For the most part, the </a:t>
            </a:r>
            <a:r>
              <a:rPr b="0" i="1" lang="en-US" sz="2600" spc="-1" strike="noStrike">
                <a:solidFill>
                  <a:srgbClr val="dbf5f9"/>
                </a:solidFill>
                <a:latin typeface="바탕"/>
              </a:rPr>
              <a:t>other</a:t>
            </a: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 and the </a:t>
            </a:r>
            <a:r>
              <a:rPr b="0" i="1" lang="en-US" sz="2600" spc="-1" strike="noStrike">
                <a:solidFill>
                  <a:srgbClr val="dbf5f9"/>
                </a:solidFill>
                <a:latin typeface="바탕"/>
              </a:rPr>
              <a:t>other shows</a:t>
            </a: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 categories were fairly similar in all th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Bias and Erro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e only watched certain shows, and they were not picked at rand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channels we watched were not picked at random(ABC, NBC and CBS) but they are the major networ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Differences in half-hour shows and hour shows could have an effect on the resu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nother affect could be weekend vs. weekd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 show we watched for two hours had an effect on the results because it was a golfing tournament and ¾ of the commercials were focused on m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Application to Population and Personal Opin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Our conclusion about this project was not as straightforward and accurate as it could have bee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atching at the same exact times as the other members of our group could have made the results more accurat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It also tended to get very boring watching daytime shows on the networks during the weeke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e assumed that during the daytime there would be more female-based commercials, and it ended up being an equal amount between the block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population’s results may or may not be different because of different networks across the state and countr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Conclus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ll in all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Food Network does indeed have an increased number of food commercials over the average network (NB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Female-based commercials rate equally in the daytime and primetime bloc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nd even though ABC, CBS, and NBC are all the top-dog networks and are similar in our minds, our study’s results prove that the channels show more of one type of commercial over other typ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Backgroun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240" y="13716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first TV commercial was broadcasted on July 1, 194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It was on the New York station WN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ad was ten seconds long and advertised a watchmak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cost of a commercial depends on the number of view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cost of a 30 second ad during the 2010 Super bowl, one of the most watched programs, cost 2.6 millions dolla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television07" descr="http://flowtv.org/wp-content/uploads/2008/10/television07.png"/>
          <p:cNvPicPr/>
          <p:nvPr/>
        </p:nvPicPr>
        <p:blipFill>
          <a:blip r:embed="rId3"/>
          <a:stretch/>
        </p:blipFill>
        <p:spPr>
          <a:xfrm>
            <a:off x="5029200" y="2362320"/>
            <a:ext cx="38228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Procedur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atched TV commercials on different channels during different times and recorded their types and how many for ea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atched Food network and ABC to compare number of food commercials for ea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e each watched one network (ABC, NBC, or CBS) and cited the types of commercials and their numb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Collected all of the recorded female commercials for both daytime and primetime (on NBC) and compar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Assumptions for 1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st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2 independent S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p₁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 (1-p₁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p₂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(1-p₂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3.      pop. (1) ≥ 10n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pop. (2) ≥ 10n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4054320" cy="3932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2286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*Not all assumptions pass, but we will continue with the tes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Food Channel vs. ABC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2 proportion z-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o: P1 =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a: P1 &gt;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z=3.652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(z &gt; 3.6529) = 1.2967 x 10^-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We reject Ho because our p-value &lt; α=0.05. We have sufficient evidence that the proportion of food commercials on Food network  is greater than the proportion of food commercials on ABC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4952880" y="2057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1= Food Chann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2= A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http://www.brocksoft.ca/bcorp/tools/stats/statsgifs/z_compare2proportions.gif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2819520"/>
            <a:ext cx="14605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Visual Statistics, Analysis, and Conclusion (1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st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There were overall a greater number of commercials recorded on the Food network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The Food network did, in fact, have a larger number of food commercials than ABC di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We were surprised by how little food commercials there were when compared to the total numb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3200400" cy="2612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5257800" y="4038480"/>
            <a:ext cx="3171960" cy="259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2286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Assumptions 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for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2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n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2 independent S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p₁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 (1-p₁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p₂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(1-p₂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3.      pop. (1) ≥ 10n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pop. (2) ≥ 10n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5" descr=""/>
          <p:cNvPicPr/>
          <p:nvPr/>
        </p:nvPicPr>
        <p:blipFill>
          <a:blip r:embed="rId3"/>
          <a:stretch/>
        </p:blipFill>
        <p:spPr>
          <a:xfrm>
            <a:off x="4638600" y="2432160"/>
            <a:ext cx="4054680" cy="39322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2286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*Not all assumptions pass, but we will continue with the tes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952524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Female-based commercials on NBC:</a:t>
            </a:r>
            <a:br>
              <a:rPr sz="4000"/>
            </a:b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Daytime vs. Primetim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2 proportion z-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o: P1 =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a: P1 &lt;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z=-.62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(z &lt; -.6289) = .264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We fail to reject Ho because our p-value &gt; α=0.05. We have sufficient evidence to say that there is an equal amount of female commercials during the daytime block and during the primetime block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666880" y="2209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1= # of female commercials during dayti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2= # of female commercials during primeti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http://www.brocksoft.ca/bcorp/tools/stats/statsgifs/z_compare2proportions.gif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380880" y="2895480"/>
            <a:ext cx="1460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Visual Statistics (2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nd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4389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1:29:25Z</dcterms:created>
  <dc:creator> </dc:creator>
  <dc:description/>
  <dc:language>en-US</dc:language>
  <cp:lastModifiedBy> </cp:lastModifiedBy>
  <dcterms:modified xsi:type="dcterms:W3CDTF">2010-06-09T21:24:50Z</dcterms:modified>
  <cp:revision>31</cp:revision>
  <dc:subject/>
  <dc:title>Sit Back, Relax and enjoy the Commercials</dc:title>
</cp:coreProperties>
</file>